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5.wmf" ContentType="image/x-wmf"/>
  <Override PartName="/ppt/media/image3.wmf" ContentType="image/x-wmf"/>
  <Override PartName="/ppt/media/driveby.wav" ContentType="audio/x-wav"/>
  <Override PartName="/ppt/media/image4.gif" ContentType="image/gif"/>
  <Override PartName="/ppt/media/image7.wmf" ContentType="image/x-wm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E2A8-8E6B-48DE-AAA7-6D396DF6A3D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ма урок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ие скоб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4936-DA47-4C4C-A424-996DEE22E8E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= - 3 + 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BEDA-9F21-43FD-B1A4-CB7BE3A5DF1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= - 3 + 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65FA-331E-43CB-8AF4-ED1765841A8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= - х +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CB39-6470-47F7-99BE-5C7DDB27949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= - х +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BF06-1BAB-41C7-8D40-8390B17F6DF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учебни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121 №5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A8A4-B92D-47C8-A9E1-112CA75219C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120 №521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904E-0236-42B7-877E-A5D63405DA5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바탕"/>
              </a:rPr>
              <a:t>Выполните действия:</a:t>
            </a: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70 : 10  =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60 : (-2) 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160 + 40 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300 : (-100)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(-90)+(- 909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150 + 400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90 + 125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8. (- 400)+(- 111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B9D0-4F7A-44BB-9D8F-FA3A149F46B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바탕"/>
              </a:rPr>
              <a:t>Выполните умно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C583-13DF-4BA2-A3AB-61710A289AB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+(а – в + с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еред скобками стоит знак +, это значит, что все слагаемые в скобках надо умножить на 1, т.е., РАСКРЫВАЯ СКОБКИ , ОСТАВИТЬ ИХ БЕЗ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96F1-B05B-48F2-9E04-8DD85A16B12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-(а – в + с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еред скобками стоит знак -, это значит, что все слагаемые в скобках надо умножить на - 1, т.е., РАСКРЫВАЯ СКОБКИ , ИЗМЕНИТЬ ЗНАКИ СЛАГАЕМЫХ НА ПРОТИВОПОЛОЖ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0F68-BF5B-4715-AA8D-2C9E2D18813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запи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=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B1C6-D982-41BE-94FD-DE2CA785076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должить запись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=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BF92-8F94-4105-933A-92F5849105A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ойте скоб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41(2 – ху – 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71( а + в –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- 20 + а – 3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2(в - 100 – 4а)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33(2х – ху + 3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8(- а + в +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65 + а – 98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(в – 2с – 3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F670-A5D6-48EB-B544-EF942985D6F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крой скобк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4(5 – х – 6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81( а + в –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25 + а – 4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1(- в - 5 – 6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9(8 + х – 4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8(- а - в +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5 - а + 54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00(в + 9 – 3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3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+ ху – 6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1( а + в –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 (21 - а – 66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0(- с - 49 + 3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6(9 – а – 5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57(- а + в –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85 - а – 404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51(в - 10 + 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4A79-A08D-45F5-B15D-A2A0073667B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12BB-1087-4304-AD33-E9C0903D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3C73-94DA-4529-AC66-1FDEF092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C665-4888-4726-8981-729C02A5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92D4-7D2F-459D-9D56-E0872F3D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5544-D23D-4196-B1E4-D2153A14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99E7-FFB0-4C9C-B12F-58802FCA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D7C6-7801-4915-B92A-C93AB3CA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A7EB-0A88-4E44-AFED-E0D32F13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ED8D-A0B0-4CD7-A187-33C79A49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2569-7536-4097-B60E-E35399F2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CF7B-631F-466E-9451-AEB08E3A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5654-8D9A-45C3-A3B2-F4DA6056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902D-7665-470A-97C9-EEBD86D6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6887-78DB-49B6-B36B-5770FD6D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3ED2-E2C5-450F-860F-41DA8CAA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7C93-398D-43E0-A5C4-AB1EC342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B133-1EEC-4125-BB4F-C50A281D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BFA4-3418-42B2-94EC-BA13FBEA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156E-928D-43DF-9434-935396AD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6168-3D3E-4DF6-AC2B-9ED59263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687E-830B-4333-9502-ACE3F7E4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127F-2A3F-479D-A15D-CE13495B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0FD1-36CF-43CC-BC9C-59233DD5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0B13-6FA6-4AB6-A314-7C713685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F4F6-2738-451D-82AD-A7CF1A5708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45E6-3002-454F-BC38-BD559E19D21B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Тема урока: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скрытие скобок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Picture 5" descr="удивленный мышонок"/>
          <p:cNvPicPr/>
          <p:nvPr/>
        </p:nvPicPr>
        <p:blipFill>
          <a:blip r:embed="rId1"/>
          <a:stretch/>
        </p:blipFill>
        <p:spPr>
          <a:xfrm>
            <a:off x="539640" y="3716280"/>
            <a:ext cx="1746360" cy="2755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j0196200"/>
          <p:cNvPicPr/>
          <p:nvPr/>
        </p:nvPicPr>
        <p:blipFill>
          <a:blip r:embed="rId2"/>
          <a:stretch/>
        </p:blipFill>
        <p:spPr>
          <a:xfrm>
            <a:off x="6012000" y="404640"/>
            <a:ext cx="2736720" cy="21654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"/>
          <p:cNvSpPr/>
          <p:nvPr/>
        </p:nvSpPr>
        <p:spPr>
          <a:xfrm>
            <a:off x="3100320" y="4292640"/>
            <a:ext cx="38275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втор: учитель математик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офимова Елена Иозас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. Абаза, 2013 г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3 + 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71" name="Rectangle 38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39" descr="crayon1"/>
          <p:cNvPicPr/>
          <p:nvPr/>
        </p:nvPicPr>
        <p:blipFill>
          <a:blip r:embed="rId1"/>
          <a:stretch/>
        </p:blipFill>
        <p:spPr>
          <a:xfrm>
            <a:off x="7264440" y="0"/>
            <a:ext cx="1879560" cy="27464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3 + 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76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33" descr="crayon1"/>
          <p:cNvPicPr/>
          <p:nvPr/>
        </p:nvPicPr>
        <p:blipFill>
          <a:blip r:embed="rId1"/>
          <a:stretch/>
        </p:blipFill>
        <p:spPr>
          <a:xfrm>
            <a:off x="7264440" y="0"/>
            <a:ext cx="1879560" cy="274788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х +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81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33" descr="crayon1"/>
          <p:cNvPicPr/>
          <p:nvPr/>
        </p:nvPicPr>
        <p:blipFill>
          <a:blip r:embed="rId1"/>
          <a:stretch/>
        </p:blipFill>
        <p:spPr>
          <a:xfrm>
            <a:off x="7093080" y="0"/>
            <a:ext cx="1780920" cy="26035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х +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86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33" descr="crayon1"/>
          <p:cNvPicPr/>
          <p:nvPr/>
        </p:nvPicPr>
        <p:blipFill>
          <a:blip r:embed="rId1"/>
          <a:stretch/>
        </p:blipFill>
        <p:spPr>
          <a:xfrm>
            <a:off x="7093080" y="0"/>
            <a:ext cx="1730160" cy="25304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по учебнику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97400" cy="4506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. 121 №52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2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7308720" y="404640"/>
            <a:ext cx="1100160" cy="1125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мышонок читает"/>
          <p:cNvPicPr/>
          <p:nvPr/>
        </p:nvPicPr>
        <p:blipFill>
          <a:blip r:embed="rId2"/>
          <a:stretch/>
        </p:blipFill>
        <p:spPr>
          <a:xfrm>
            <a:off x="6804000" y="2924280"/>
            <a:ext cx="1684440" cy="25984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8560" y="2205000"/>
            <a:ext cx="6342120" cy="36432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. 120 №521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2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4716360" y="2637000"/>
            <a:ext cx="2519640" cy="25192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바탕"/>
              </a:rPr>
              <a:t>Выполните действия:</a:t>
            </a:r>
            <a:r>
              <a:rPr b="1" i="1" lang="ru-RU" sz="44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58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70 : 10  =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60 : (-2) 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160 + 40 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300 : (-100)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(-90)+(- 909)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150 + 400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90 + 125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8. (- 400)+(- 111)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859280" y="1268280"/>
            <a:ext cx="1112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932360" y="1844640"/>
            <a:ext cx="1309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5076720" y="2421000"/>
            <a:ext cx="1440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12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5435640" y="306864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5219640" y="364500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5219640" y="42210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25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5148360" y="4797360"/>
            <a:ext cx="167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5219640" y="537372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5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바탕"/>
              </a:rPr>
              <a:t>Выполните умнож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858000" y="9144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467480" y="227664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6,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596360" y="364500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468360" y="981000"/>
            <a:ext cx="748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0,3  · (-0,5)  ·  2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-1)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0,25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-1) · (- 6,3) · (-4) 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(-2,5) · (0,4) · 50 · (-0,02) 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+(а – в + с)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перед скобками стоит знак +, это значит, что все слагаемые в скобках надо умножить на 1, т.е., РАСКРЫВАЯ СКОБКИ , ОСТАВИТЬ ИХ БЕЗ ИЗМЕН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971640" y="48690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+1</a:t>
            </a:r>
            <a:r>
              <a:rPr b="0" i="1" lang="en-US" sz="9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(а – в + с)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Arc 9"/>
          <p:cNvSpPr/>
          <p:nvPr/>
        </p:nvSpPr>
        <p:spPr>
          <a:xfrm>
            <a:off x="2268360" y="4724280"/>
            <a:ext cx="1417680" cy="542880"/>
          </a:xfrm>
          <a:custGeom>
            <a:avLst/>
            <a:gdLst/>
            <a:ahLst/>
            <a:rect l="l" t="t" r="r" b="b"/>
            <a:pathLst>
              <a:path fill="none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Arc 11"/>
          <p:cNvSpPr/>
          <p:nvPr/>
        </p:nvSpPr>
        <p:spPr>
          <a:xfrm>
            <a:off x="2268360" y="4654440"/>
            <a:ext cx="3095640" cy="567000"/>
          </a:xfrm>
          <a:custGeom>
            <a:avLst/>
            <a:gdLst/>
            <a:ahLst/>
            <a:rect l="l" t="t" r="r" b="b"/>
            <a:pathLst>
              <a:path fill="none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</a:path>
              <a:path stroke="0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rc 12"/>
          <p:cNvSpPr/>
          <p:nvPr/>
        </p:nvSpPr>
        <p:spPr>
          <a:xfrm>
            <a:off x="2341440" y="4586400"/>
            <a:ext cx="5051520" cy="569880"/>
          </a:xfrm>
          <a:custGeom>
            <a:avLst/>
            <a:gdLst/>
            <a:ahLst/>
            <a:rect l="l" t="t" r="r" b="b"/>
            <a:pathLst>
              <a:path fill="none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</a:path>
              <a:path stroke="0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356400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15"/>
          <p:cNvSpPr/>
          <p:nvPr/>
        </p:nvSpPr>
        <p:spPr>
          <a:xfrm flipH="1">
            <a:off x="3708000" y="5084640"/>
            <a:ext cx="7164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521964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17"/>
          <p:cNvSpPr/>
          <p:nvPr/>
        </p:nvSpPr>
        <p:spPr>
          <a:xfrm flipH="1">
            <a:off x="5364000" y="5084640"/>
            <a:ext cx="14472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19"/>
          <p:cNvSpPr/>
          <p:nvPr/>
        </p:nvSpPr>
        <p:spPr>
          <a:xfrm>
            <a:off x="7236000" y="5084640"/>
            <a:ext cx="144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20"/>
          <p:cNvSpPr/>
          <p:nvPr/>
        </p:nvSpPr>
        <p:spPr>
          <a:xfrm flipH="1">
            <a:off x="7380000" y="501336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-(а – в + с)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4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перед скобками стоит знак -, это значит, что все слагаемые в скобках надо умножить на - 1, т.е., РАСКРЫВАЯ СКОБКИ , ИЗМЕНИТЬ ЗНАКИ СЛАГАЕМЫХ НА ПРОТИВОПОЛОЖНЫ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971640" y="48690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-1</a:t>
            </a:r>
            <a:r>
              <a:rPr b="0" i="1" lang="en-US" sz="9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(а – в + с)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rc 5"/>
          <p:cNvSpPr/>
          <p:nvPr/>
        </p:nvSpPr>
        <p:spPr>
          <a:xfrm>
            <a:off x="2268360" y="4724280"/>
            <a:ext cx="1417680" cy="542880"/>
          </a:xfrm>
          <a:custGeom>
            <a:avLst/>
            <a:gdLst/>
            <a:ahLst/>
            <a:rect l="l" t="t" r="r" b="b"/>
            <a:pathLst>
              <a:path fill="none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rc 6"/>
          <p:cNvSpPr/>
          <p:nvPr/>
        </p:nvSpPr>
        <p:spPr>
          <a:xfrm>
            <a:off x="2268360" y="4654440"/>
            <a:ext cx="3095640" cy="567000"/>
          </a:xfrm>
          <a:custGeom>
            <a:avLst/>
            <a:gdLst/>
            <a:ahLst/>
            <a:rect l="l" t="t" r="r" b="b"/>
            <a:pathLst>
              <a:path fill="none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</a:path>
              <a:path stroke="0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Arc 7"/>
          <p:cNvSpPr/>
          <p:nvPr/>
        </p:nvSpPr>
        <p:spPr>
          <a:xfrm>
            <a:off x="2341440" y="4586400"/>
            <a:ext cx="5051520" cy="569880"/>
          </a:xfrm>
          <a:custGeom>
            <a:avLst/>
            <a:gdLst/>
            <a:ahLst/>
            <a:rect l="l" t="t" r="r" b="b"/>
            <a:pathLst>
              <a:path fill="none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</a:path>
              <a:path stroke="0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356400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3708000" y="5084640"/>
            <a:ext cx="7164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521964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Line 11"/>
          <p:cNvSpPr/>
          <p:nvPr/>
        </p:nvSpPr>
        <p:spPr>
          <a:xfrm flipH="1">
            <a:off x="5364000" y="5084640"/>
            <a:ext cx="14472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12"/>
          <p:cNvSpPr/>
          <p:nvPr/>
        </p:nvSpPr>
        <p:spPr>
          <a:xfrm>
            <a:off x="7236000" y="5084640"/>
            <a:ext cx="144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13"/>
          <p:cNvSpPr/>
          <p:nvPr/>
        </p:nvSpPr>
        <p:spPr>
          <a:xfrm flipH="1">
            <a:off x="7380000" y="501336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должить запис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58920" y="2349000"/>
            <a:ext cx="6485040" cy="2706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= …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должить запись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7280" y="2636640"/>
            <a:ext cx="6485040" cy="2850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= …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скройте скобк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41(2 – ху – у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71( а + в – с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(- 20 + а – 3в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2(в - 100 – 4а) =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33(2х – ху + 3у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8(- а + в + с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(65 + а – 98в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31(в – 2с – 3а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00360" y="333360"/>
            <a:ext cx="450072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Раскрой скобки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600360" cy="5182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4(5 – х – 6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81(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25 + а – 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1(- в - 5 – 6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9(8 + х – 4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8(- а - в +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5 - а + 5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00(в + 9 – 3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03280" y="1412640"/>
            <a:ext cx="3961080" cy="5182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3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+ ху – 6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1(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 (21 - а – 66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0(- с - 49 + 3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6(9 – а – 5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57(-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85 - а – 40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51(в - 10 + 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332000" y="907920"/>
            <a:ext cx="22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5867280" y="907920"/>
            <a:ext cx="22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0:42:51Z</dcterms:created>
  <dc:creator>Трофимов</dc:creator>
  <dc:description/>
  <dc:language>en-US</dc:language>
  <cp:lastModifiedBy>LEGION</cp:lastModifiedBy>
  <dcterms:modified xsi:type="dcterms:W3CDTF">2015-01-23T13:24:43Z</dcterms:modified>
  <cp:revision>6</cp:revision>
  <dc:subject/>
  <dc:title>Тема урока:  Раскрытие скобок.</dc:title>
</cp:coreProperties>
</file>